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E7703-EC0F-49CF-96D2-B6AB9852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E9CBB-650E-4FE6-8A91-04C2B308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D97A1-0FEE-4A75-A11F-A44C135A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45189-AD9D-4E8E-9706-16D4A148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C721-243D-4D39-A7AB-7A26DCDC3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F3BA-D22E-4025-A527-9B6F274F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88C6-8738-4684-8499-D3EAA938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04D5-5F4C-4441-BB7E-D6DA2EA0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5265-D0A9-4F91-B746-70335845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0F65-4542-4000-8C0E-89CCF747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D69C-6365-4B54-B045-719914F9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AC719-ADDD-429C-8F86-B5EFEDEE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99E8-E717-4D89-ABD0-5A851A41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1232-04B4-4F39-8D88-433C7CE1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2DC5-EA13-4C9F-931F-361A7A18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426B-F73B-4465-991D-CBA83B71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676F-CE78-4BC2-91C8-39CF96D0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70276-C63F-4CFF-AE9B-64DD6E14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F34C0-12DB-415E-AEBD-5E021576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15C48-130F-4D02-B3E5-FAD549AE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35034-9AC1-4DEC-833D-91469E5A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DD74B-6D99-48B0-B048-178D01E8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C2411-B95A-4AED-8B74-84933ABE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D8884-F075-4440-BC27-07F20AD6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23B0-C8D8-44ED-93C3-827E205DD5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5932-2867-45EF-B18B-B0B925C492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 u="sng">
                <a:solidFill>
                  <a:srgbClr val="00007d"/>
                </a:solidFill>
                <a:uFillTx/>
                <a:latin typeface="Arial"/>
              </a:rPr>
              <a:t>Тема урока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743200" y="236232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Начните работу с нажатия кнопки Пу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86400" y="304920"/>
            <a:ext cx="3429000" cy="954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18800" y="4568760"/>
            <a:ext cx="3728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 информатике и И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ля 5-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00080"/>
                </a:solidFill>
                <a:uFillTx/>
                <a:latin typeface="Arial"/>
              </a:rPr>
              <a:t>Соста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Пулова Светла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ГБОУ СОШ № 2031, г.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Практическая работа </a:t>
            </a:r>
            <a:br>
              <a:rPr sz="3200"/>
            </a:b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«Запуск стандартных программ из </a:t>
            </a:r>
            <a:br>
              <a:rPr sz="3200"/>
            </a:b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Главного меню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Запустите программу Блокн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тобы запустить стандартную програм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ведите указатель мыши на кнопку Пуск на Панели задач и щелкните левой кнопк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ведите указатель мыши к пункту Программы – откроется вложенное меню с перечнем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ведите указатель к пункту Стандартные – появится вновь вложенное меню с перечнем стандартных , часто используемых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ите нужную программу Блокнот, и выберите ее щелчком левой кнопки мы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79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ус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5791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5791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тандар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5791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локн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CC1FB-AB67-4502-BD93-8436867B30DB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. Запустите стандартную программу Калькулятор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1143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1295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114300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1295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143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Стандар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1295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0" y="1143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Блокн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6765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marL="106200" indent="-106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. Завершение работы с програм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ершить работу программы Калькуля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ершить работу программы Блокн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появлении окна сохранения документа, нажмите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5181480" cy="24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CBB2E-E9B0-486A-B219-3D150777590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Итоги урока и Д/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Какую тему рассматрив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то нового вы узн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ему научили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то вам больше всего понравило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/З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5 и определения вы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3276720" cy="238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3BAA8-671F-4D34-A6E3-AE2E2E36ECA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910120" y="3200400"/>
            <a:ext cx="3233880" cy="2809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накомить с назначением и функциями Главного мен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воить запуск программ через Главное мен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6BE75-98AA-4BC5-BEFA-DA3A76EF65A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19360" y="198072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ение нов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реп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тоги урока и д/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35412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82047-8B05-4933-BDFA-BAD10BD889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4619520" cy="30672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1. Повто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520" y="106632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бочий сто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аходится на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Рабочем стол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аходится на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панели зада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Мен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вы знаете о кнопке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Пус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9BEC5-62A9-49DF-A8BF-575BA037D5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2. Изучение нового материа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00600" y="2666880"/>
            <a:ext cx="3733920" cy="1040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нопка Пуск располагается на Панели задач в левом нижнем уг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200400"/>
            <a:ext cx="4495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ие действия начинаются с нажатия кнопки Пу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943600" y="38098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1DE99-A321-4187-A747-D8AB458C52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46720" y="228600"/>
            <a:ext cx="3797280" cy="5605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4495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Щелкнув по кнопке Пуск откроется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лавное мен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971800"/>
            <a:ext cx="3048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лавное ме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657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886200"/>
            <a:ext cx="449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этого меню можно вызвать различные программы. При помощи программ создаются документы: тексты, рисунки,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0D324-51FD-4AE1-8089-BBE0CF8CD71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3733560" cy="5867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44960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 пункте меню справа расположен значок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ит этот пункт является заголовком еще одного мен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687240" cy="718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>
            <a:off x="2971800" y="2514600"/>
            <a:ext cx="5562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3048120"/>
            <a:ext cx="3429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124080"/>
            <a:ext cx="3962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3200400"/>
            <a:ext cx="4267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E88F3-7BCF-436D-92AE-BC78FF1EB9C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8077320" cy="44085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го содержимое появляется при выделении этого пункта. Такие меню называют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вложенны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скрытыми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59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Глав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1371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Вложен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895480"/>
            <a:ext cx="380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343040" y="1752480"/>
            <a:ext cx="2514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934320" y="1752480"/>
            <a:ext cx="304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18288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A2D4C-AF97-491F-B341-3A2EF3698E3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174920" cy="6095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304920" y="15998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оме того, кнопка Пуск позволяет грамотно завершить работу на компьютере, выбрав команд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авершение рабо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7D269-4741-4265-A74F-B91A0B55BAE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</cp:lastModifiedBy>
  <dcterms:modified xsi:type="dcterms:W3CDTF">2012-04-13T07:39:0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